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CB3-30A6-4DC6-A499-D0E42F65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048-D953-4D29-A625-5217325D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D5B-88C4-47AF-B654-6DABD3AA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B5F-41AB-4B70-99C8-DCAE1655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C22-6B95-4BB9-B3BF-8456DC6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58D-939E-4A5B-A913-327DDCB3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425-E269-446F-8285-654636E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899-9C97-411B-ADF6-776DF76D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909-5466-43B8-987A-E26B82A6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803-5070-4383-AEC8-3780897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9BE-E3A8-4120-8048-CCC32C8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6E9-DF4F-49A8-9776-E52ADA4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D3E1-94C4-4294-B76B-7C3857969C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200" y="1371600"/>
            <a:ext cx="538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ierarch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1520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315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315200" cy="77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5438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543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38680" y="3886200"/>
            <a:ext cx="27432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619760" cy="65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6197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848720" cy="91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784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7620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9608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5086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616120" cy="252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56960" y="3382920"/>
            <a:ext cx="6609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2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45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9246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190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546360"/>
            <a:ext cx="77724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39152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5438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33Z</dcterms:modified>
  <cp:revision>211</cp:revision>
  <dc:subject/>
  <dc:title>Slide 1</dc:title>
</cp:coreProperties>
</file>